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560A-2E51-4C4F-A106-62532573EE81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7ADF-586C-4B03-B1F1-78BCD9C47F34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942-2AFD-48FD-B12E-4BBC20F7C434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22A0-D2D8-487B-B67C-1511CBFAF376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23BB-7058-430B-9EC4-67DD0BF42C2E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9EAC-7B66-49EE-BFE5-FCB7D04EE3E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4455-47F6-48EC-9CFC-2D64075F22D0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503B-373B-430B-B304-33EB58B41D4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F5E5-E855-4057-A335-21ACE9C3FC52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CF4B-F04A-4560-8FD5-E45F7403C44B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DDC7-2D52-40A6-B10B-077303208108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760-50AB-4D93-A8B3-61FCAA15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DAF-8009-4494-A7DE-45CDA5E0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C03-A120-4E15-A4D5-2E98E6FA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87F-D161-48A5-A8B8-7FFF05A6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1D5F-2F49-4998-B94A-B1156804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EE86-AF25-4634-BD05-007DDB2F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D8AC-90C4-41C6-95CA-4645E38C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8C67-DC32-4A03-B391-A2F6D461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96F6-C091-4DA3-9083-B14CD7EE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B95C-AAF2-42C2-AA7F-C87B91DB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106-BD15-40AF-9271-A153549F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D74-0CCB-4A17-82EF-2C338C44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6E79-5F13-4402-A5B5-83E68E7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89B9-D941-42F2-A7E7-25360ADF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925D-5711-4DC3-BAE4-12D45794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6C07-BD50-47B6-ABA5-238E5AB2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1AD2-5895-41C8-AB25-F532C606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18A3-3E94-4691-B439-DC691639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D930-214F-47DB-A371-8D5DFE50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BB8C-D9D1-43F3-BAB5-C62AF9E7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063F-DDE8-4AF3-B46C-78ED21E8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13D4-8165-48E7-994F-4A48EBF8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9B3-2981-41EC-B74B-A3A5C892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BD9C-9F3E-4182-85AC-CD868638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991C-687E-438F-B939-84A613B8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82B4-6527-4E7D-8A7B-9A64BAB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92A1-3694-4D7D-9918-8AD28CE1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A52A-65A5-45AC-869E-43049D02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8D3E-7999-4C58-84B7-170E1016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D1D7-6CD7-4920-9130-AA08C6F6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342A5-30A9-4604-A86F-56FB172B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0F68-AE0A-4FA4-B800-786FCCAD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1907C-C126-4AE9-ADC1-00655EB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09C-98F0-4C6E-8A05-70F0245A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325EA-65C0-4CB8-AC53-6759FA96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8480F-F16B-44A9-BC7D-B172960D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F18E-BD9D-47A0-BA8F-3748338F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97E0-5962-400C-A105-0B47C273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A6A9C-D7A6-481A-8577-1AD6116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5103-5D1A-4B11-B2F6-FEC15F9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AC64-550D-476B-89CF-FF3E8379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F2C59-7B57-40AA-8A71-4617D9FA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304DC-1C7A-4DC4-BE9C-AB3E9DD6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70F-8996-4E17-BF0D-DB3B25CD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825-2FF4-4F6A-8762-5CFA3D3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56C-B1FE-4960-9C95-FF97C01E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DA2-5F4F-410B-B23E-8494E2FD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211-75F3-4A5F-83B2-2FF4C799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B966-8457-4107-A2BD-36A67FB16033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3601-89D0-45D5-9BC3-13C6E3D704F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5F48-820C-4D6B-B6E5-23C51946CDA4}" type="datetime">
              <a:rPr b="0" lang="en-US" sz="1200" spc="-1" strike="noStrike">
                <a:solidFill>
                  <a:srgbClr val="d1eae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D5BB-FF24-4F3E-A778-48359B1FF3A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AB93-6C30-4AE9-8295-C47E14096140}" type="datetime">
              <a:rPr b="0" lang="en-US" sz="1200" spc="-1" strike="noStrike">
                <a:solidFill>
                  <a:srgbClr val="d1eae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EC7-C466-4F59-B605-BA6F37B9E7D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2E23-245D-40D4-9407-0D56532232C6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78B1-6E63-4751-931C-E5B6E3C7DDF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28F4-2CD2-4862-8C45-CBF08B7E25D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1143000" y="2743200"/>
            <a:ext cx="68580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-Centric Approach to Place Based Commun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lcwlogo.gif"/>
          <p:cNvPicPr/>
          <p:nvPr/>
        </p:nvPicPr>
        <p:blipFill>
          <a:blip r:embed="rId1"/>
          <a:stretch/>
        </p:blipFill>
        <p:spPr>
          <a:xfrm>
            <a:off x="685800" y="685800"/>
            <a:ext cx="3733920" cy="1643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Diagram 1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20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3733920" y="3276720"/>
            <a:ext cx="17524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Give/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762120" y="685800"/>
            <a:ext cx="7696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loring  The Network Form – A Value &amp; Demand Drive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60948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-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6553080" y="3200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ve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58128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der as “Wea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“Community?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 the cellular level - ‘The exchange of value that comes from a  single relationship of trust and mutual support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Place - The aggregate of these relationships form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onnected environ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is not ‘community’ but the infrastructure for 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the functionality that emerges from this infrastrucuture – the ability to act, plan, solve problems, adapt well to change, embrace newcomers, collectively comfort and individually be known, that is “communit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Community Building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are community building when we act to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ptimize the value of pl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two primary way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imulate Grassroots economic mobiliz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ueled by the unleashing of latent valu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oster functional democrac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 defined by the principal of “consent by the governed” which is the cornerstone of liberty and the best chance for social and economic justi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685800" y="1828800"/>
          <a:ext cx="7848720" cy="24382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“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vironment”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rrounding conditions, influences, or forces, by which living forms are influenced and modified in their growth and develop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ke in all nature – human environment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Fe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certain things an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nstantia"/>
                        </a:rPr>
                        <a:t>Star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other things.  The question for us…”what are we feeding and what are we starving?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19"/>
          <p:cNvSpPr/>
          <p:nvPr/>
        </p:nvSpPr>
        <p:spPr>
          <a:xfrm>
            <a:off x="304920" y="4343400"/>
            <a:ext cx="84582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ur Guiding Principal: Cultivating New Human Environments that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ursuit of valu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roductivit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lationships of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oic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utual Suppor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enerosity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reati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57200" y="990720"/>
            <a:ext cx="8153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ess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People exist in environments, not organizations or groups of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2" descr=""/>
          <p:cNvPicPr/>
          <p:nvPr/>
        </p:nvPicPr>
        <p:blipFill>
          <a:blip r:embed="rId1"/>
          <a:stretch/>
        </p:blipFill>
        <p:spPr>
          <a:xfrm>
            <a:off x="3956040" y="2206800"/>
            <a:ext cx="4889520" cy="33652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304920" y="91440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” &amp; “Space” are still relevant and impactful elements of our environment. This makes “Place” important.  Technology’s ability to diminish time and space as relevant and impactful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ncreas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ut is als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mmodified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For poor people, “place” remains one of the most important environmental factors for quality of life and economic Su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entury Environmental Fa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further influence the ‘Value of Plac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304920" y="533520"/>
            <a:ext cx="7391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esson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ace has changed as a factor in the lives of most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457200" y="5715000"/>
            <a:ext cx="8305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ur Guiding Principal: “Community Building is a process of grass roots mobilization, where the goal is to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‘optimize the value of place’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the lives of struggling families and individuals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2"/>
          <p:cNvSpPr/>
          <p:nvPr/>
        </p:nvSpPr>
        <p:spPr>
          <a:xfrm>
            <a:off x="457200" y="1523880"/>
            <a:ext cx="82296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al forms of human engagement are invented to compensate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ence of relationships of trust and valu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l and perceived imbalances of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l and percieved complexities of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community setting, entrenched habits of organization assume structural solutions. But the forms are over engineer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hibit the development of relationships of trust a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inforce real and perceived imbalances of power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vor process over actio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the ‘who are we’ over the ‘what should we do together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457200" y="457200"/>
            <a:ext cx="754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esson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community organizing and community building and in many Movements we have a fetish for structural forms to our det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457200" y="5562720"/>
            <a:ext cx="82296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ur Guiding Principal: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 FOLLOWS FUNCTION and in community Open Architecture Forms that are provisional, informal, action oriented and seek perpetual access are bes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2"/>
          <p:cNvSpPr/>
          <p:nvPr/>
        </p:nvSpPr>
        <p:spPr>
          <a:xfrm>
            <a:off x="533520" y="838080"/>
            <a:ext cx="8153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ess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Environmental factors are shifting the nature of ‘belonging’ and the preferred forms of affiliation and 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457200" y="5562720"/>
            <a:ext cx="8229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ur Guiding Principal: Low level Affiliation based on Value and Choice is the optimal membership environment for most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6" descr=""/>
          <p:cNvPicPr/>
          <p:nvPr/>
        </p:nvPicPr>
        <p:blipFill>
          <a:blip r:embed="rId1"/>
          <a:stretch/>
        </p:blipFill>
        <p:spPr>
          <a:xfrm>
            <a:off x="530280" y="1670040"/>
            <a:ext cx="3822480" cy="3262320"/>
          </a:xfrm>
          <a:prstGeom prst="rect">
            <a:avLst/>
          </a:prstGeom>
          <a:ln w="0">
            <a:noFill/>
          </a:ln>
        </p:spPr>
      </p:pic>
      <p:pic>
        <p:nvPicPr>
          <p:cNvPr id="222" name="Diagram 10" descr=""/>
          <p:cNvPicPr/>
          <p:nvPr/>
        </p:nvPicPr>
        <p:blipFill>
          <a:blip r:embed="rId2"/>
          <a:stretch/>
        </p:blipFill>
        <p:spPr>
          <a:xfrm>
            <a:off x="4950000" y="1749600"/>
            <a:ext cx="3822480" cy="3260520"/>
          </a:xfrm>
          <a:prstGeom prst="rect">
            <a:avLst/>
          </a:prstGeom>
          <a:ln w="0">
            <a:noFill/>
          </a:ln>
        </p:spPr>
      </p:pic>
      <p:sp>
        <p:nvSpPr>
          <p:cNvPr id="223" name="Striped Right Arrow 11"/>
          <p:cNvSpPr/>
          <p:nvPr/>
        </p:nvSpPr>
        <p:spPr>
          <a:xfrm>
            <a:off x="4114800" y="3276720"/>
            <a:ext cx="1143000" cy="5331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4" descr=""/>
          <p:cNvPicPr/>
          <p:nvPr/>
        </p:nvPicPr>
        <p:blipFill>
          <a:blip r:embed="rId1"/>
          <a:stretch/>
        </p:blipFill>
        <p:spPr>
          <a:xfrm>
            <a:off x="1292400" y="1365120"/>
            <a:ext cx="6565680" cy="42004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304920" y="7621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ur Objectiv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Thousands in the Game - Build A Network- Centric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led with Lawrence Families and Providers Who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838080" y="5380200"/>
            <a:ext cx="746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bership In the Network: NOT a club for NEEDY PEOPLE, but an environment filled with ambitious, creative people who are “working on their stuff” and Engaged in Public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Diagram 1" descr=""/>
          <p:cNvPicPr/>
          <p:nvPr/>
        </p:nvPicPr>
        <p:blipFill>
          <a:blip r:embed="rId1"/>
          <a:stretch/>
        </p:blipFill>
        <p:spPr>
          <a:xfrm>
            <a:off x="225360" y="426960"/>
            <a:ext cx="8699400" cy="6381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3200400" y="2666880"/>
            <a:ext cx="1600200" cy="94644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ember+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u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cri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nn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4572000" y="4343400"/>
            <a:ext cx="1219320" cy="73332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PODER Leadership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3886200" y="1828800"/>
            <a:ext cx="1600200" cy="82404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eviviendo Fellows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Curved Connector 8"/>
          <p:cNvCxnSpPr/>
          <p:nvPr/>
        </p:nvCxnSpPr>
        <p:spPr>
          <a:xfrm rot="5400000">
            <a:off x="6285960" y="1866600"/>
            <a:ext cx="68652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Curved Connector 11"/>
          <p:cNvCxnSpPr/>
          <p:nvPr/>
        </p:nvCxnSpPr>
        <p:spPr>
          <a:xfrm rot="10800000">
            <a:off x="6171480" y="3580560"/>
            <a:ext cx="1067400" cy="30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Curved Connector 16"/>
          <p:cNvCxnSpPr/>
          <p:nvPr/>
        </p:nvCxnSpPr>
        <p:spPr>
          <a:xfrm rot="5400000">
            <a:off x="4342680" y="1066680"/>
            <a:ext cx="762480" cy="6102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Curved Connector 22"/>
          <p:cNvCxnSpPr/>
          <p:nvPr/>
        </p:nvCxnSpPr>
        <p:spPr>
          <a:xfrm>
            <a:off x="2514600" y="2057040"/>
            <a:ext cx="991440" cy="30564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Curved Connector 27"/>
          <p:cNvCxnSpPr/>
          <p:nvPr/>
        </p:nvCxnSpPr>
        <p:spPr>
          <a:xfrm rot="10800000">
            <a:off x="5942880" y="4571280"/>
            <a:ext cx="76284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Curved Connector 32"/>
          <p:cNvCxnSpPr/>
          <p:nvPr/>
        </p:nvCxnSpPr>
        <p:spPr>
          <a:xfrm flipV="1">
            <a:off x="2133720" y="3580560"/>
            <a:ext cx="915120" cy="3056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7" name="Curved Connector 37"/>
          <p:cNvCxnSpPr/>
          <p:nvPr/>
        </p:nvCxnSpPr>
        <p:spPr>
          <a:xfrm flipV="1">
            <a:off x="2895480" y="5257440"/>
            <a:ext cx="1067760" cy="534240"/>
          </a:xfrm>
          <a:prstGeom prst="curvedConnector5">
            <a:avLst>
              <a:gd name="adj1" fmla="val 49983"/>
              <a:gd name="adj2" fmla="val 49966"/>
              <a:gd name="adj3" fmla="val 49983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Curved Connector 48"/>
          <p:cNvCxnSpPr/>
          <p:nvPr/>
        </p:nvCxnSpPr>
        <p:spPr>
          <a:xfrm flipH="1" flipV="1" rot="5400000">
            <a:off x="4190760" y="556200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TextBox 57"/>
          <p:cNvSpPr/>
          <p:nvPr/>
        </p:nvSpPr>
        <p:spPr>
          <a:xfrm>
            <a:off x="4952880" y="2819520"/>
            <a:ext cx="1600200" cy="52020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Membership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8"/>
          <p:cNvSpPr/>
          <p:nvPr/>
        </p:nvSpPr>
        <p:spPr>
          <a:xfrm>
            <a:off x="5029200" y="3733920"/>
            <a:ext cx="1219320" cy="30708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AB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9"/>
          <p:cNvSpPr/>
          <p:nvPr/>
        </p:nvSpPr>
        <p:spPr>
          <a:xfrm>
            <a:off x="3048120" y="3962520"/>
            <a:ext cx="990360" cy="946440"/>
          </a:xfrm>
          <a:prstGeom prst="rect">
            <a:avLst/>
          </a:prstGeom>
          <a:solidFill>
            <a:srgbClr val="91c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ampus Residency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1"/>
          <p:cNvSpPr/>
          <p:nvPr/>
        </p:nvSpPr>
        <p:spPr>
          <a:xfrm>
            <a:off x="5335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ur For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Big Room With Many (Different) D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2"/>
          <p:cNvSpPr/>
          <p:nvPr/>
        </p:nvSpPr>
        <p:spPr>
          <a:xfrm>
            <a:off x="7162920" y="5105520"/>
            <a:ext cx="1828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ible Memb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shold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s/Projects Function as “Do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ned Benefits for Experienced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and Members as Wea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22:19:28Z</dcterms:created>
  <dc:creator>Mark Friedman</dc:creator>
  <dc:description/>
  <dc:language>en-US</dc:language>
  <cp:lastModifiedBy>Bill Traynor</cp:lastModifiedBy>
  <cp:lastPrinted>2008-11-14T00:37:04Z</cp:lastPrinted>
  <dcterms:modified xsi:type="dcterms:W3CDTF">2009-04-10T12:43:43Z</dcterms:modified>
  <cp:revision>651</cp:revision>
  <dc:subject/>
  <dc:title>Results and Performance Accountabilty, Decision-making and Budg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FTST1">
    <vt:lpwstr>Welcome 
Strengthening Families through Community Change
 Webinar Series
Resident Engagement in Neighborhood Transformation
November 18, 2008</vt:lpwstr>
  </property>
  <property fmtid="{D5CDD505-2E9C-101B-9397-08002B2CF9AE}" pid="3" name="MFTST10">
    <vt:lpwstr>Levels of Resident Involvement</vt:lpwstr>
  </property>
  <property fmtid="{D5CDD505-2E9C-101B-9397-08002B2CF9AE}" pid="4" name="MFTST11">
    <vt:lpwstr>Casey Foundation Approach</vt:lpwstr>
  </property>
  <property fmtid="{D5CDD505-2E9C-101B-9397-08002B2CF9AE}" pid="5" name="MFTST12">
    <vt:lpwstr>AECF Community Change Initiative: Making Connections</vt:lpwstr>
  </property>
  <property fmtid="{D5CDD505-2E9C-101B-9397-08002B2CF9AE}" pid="6" name="MFTST13">
    <vt:lpwstr>AECF Community Change Initiative: Making Connections</vt:lpwstr>
  </property>
  <property fmtid="{D5CDD505-2E9C-101B-9397-08002B2CF9AE}" pid="7" name="MFTST14">
    <vt:lpwstr>Accomplishments in 2008:</vt:lpwstr>
  </property>
  <property fmtid="{D5CDD505-2E9C-101B-9397-08002B2CF9AE}" pid="8" name="MFTST15">
    <vt:lpwstr>Accomplishments in 2008:</vt:lpwstr>
  </property>
  <property fmtid="{D5CDD505-2E9C-101B-9397-08002B2CF9AE}" pid="9" name="MFTST16">
    <vt:lpwstr>Accomplishments in 2008: Influence</vt:lpwstr>
  </property>
  <property fmtid="{D5CDD505-2E9C-101B-9397-08002B2CF9AE}" pid="10" name="MFTST17">
    <vt:lpwstr>“Authentic Demand” is when people …
Believe that better results for children, families and neighborhoods are possible and are committed to pursui</vt:lpwstr>
  </property>
  <property fmtid="{D5CDD505-2E9C-101B-9397-08002B2CF9AE}" pid="11" name="MFTST18">
    <vt:lpwstr>Authentic Demand _x000b_“Honey Comb”</vt:lpwstr>
  </property>
  <property fmtid="{D5CDD505-2E9C-101B-9397-08002B2CF9AE}" pid="12" name="MFTST19">
    <vt:lpwstr>Important Community Infrastructure Components:</vt:lpwstr>
  </property>
  <property fmtid="{D5CDD505-2E9C-101B-9397-08002B2CF9AE}" pid="13" name="MFTST2">
    <vt:lpwstr>Agenda</vt:lpwstr>
  </property>
  <property fmtid="{D5CDD505-2E9C-101B-9397-08002B2CF9AE}" pid="14" name="MFTST20">
    <vt:lpwstr>Providence Example</vt:lpwstr>
  </property>
  <property fmtid="{D5CDD505-2E9C-101B-9397-08002B2CF9AE}" pid="15" name="MFTST21">
    <vt:lpwstr/>
  </property>
  <property fmtid="{D5CDD505-2E9C-101B-9397-08002B2CF9AE}" pid="16" name="MFTST22">
    <vt:lpwstr>Wrap-up</vt:lpwstr>
  </property>
  <property fmtid="{D5CDD505-2E9C-101B-9397-08002B2CF9AE}" pid="17" name="MFTST23">
    <vt:lpwstr>_x000b_Upcoming Strengthening Families thru Community Change Webinars</vt:lpwstr>
  </property>
  <property fmtid="{D5CDD505-2E9C-101B-9397-08002B2CF9AE}" pid="18" name="MFTST3">
    <vt:lpwstr>Purpose and Results</vt:lpwstr>
  </property>
  <property fmtid="{D5CDD505-2E9C-101B-9397-08002B2CF9AE}" pid="19" name="MFTST4">
    <vt:lpwstr>Jacobs Center for Neighborhood Innovation: 
The Village at Market Creek</vt:lpwstr>
  </property>
  <property fmtid="{D5CDD505-2E9C-101B-9397-08002B2CF9AE}" pid="20" name="MFTST5">
    <vt:lpwstr>Jacobs Center for Neighborhood Innovation
Resident Ownership of Change in the Diamond Neighborhoods</vt:lpwstr>
  </property>
  <property fmtid="{D5CDD505-2E9C-101B-9397-08002B2CF9AE}" pid="21" name="MFTST6">
    <vt:lpwstr>Jacobs Center for Neighborhood Innovation
Resident Ownership of Change in the Diamond Neighborhoods</vt:lpwstr>
  </property>
  <property fmtid="{D5CDD505-2E9C-101B-9397-08002B2CF9AE}" pid="22" name="MFTST7">
    <vt:lpwstr>Jacobs Center for _x000b_Neighborhood Innovation Approach</vt:lpwstr>
  </property>
  <property fmtid="{D5CDD505-2E9C-101B-9397-08002B2CF9AE}" pid="23" name="MFTST8">
    <vt:lpwstr>Get Involved_x000b_with the Community
Support projects that are initiated and_x000b_led by the community
Seek opportunities to work and learn together
Be clear</vt:lpwstr>
  </property>
  <property fmtid="{D5CDD505-2E9C-101B-9397-08002B2CF9AE}" pid="24" name="MFTST9">
    <vt:lpwstr>Phases of Our Community Work</vt:lpwstr>
  </property>
  <property fmtid="{D5CDD505-2E9C-101B-9397-08002B2CF9AE}" pid="25" name="MFTSlideTypes">
    <vt:lpwstr>5,5,5,5,5,5,5,5,5,5,5,5,5,5,5,5,5,5,5,5,5,5,5</vt:lpwstr>
  </property>
</Properties>
</file>